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1D8-6951-43F6-BA36-8F38109F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617-8D87-498D-A5B2-CC1C467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97B-6F21-4E34-B4F2-0427CAAD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EF5-79E3-496E-92B9-4B445EED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FA4-727F-48EB-BC8B-4773485B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6F6-4E72-4B77-BD75-6DEAAA8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49F-435D-4457-A0E2-01698E8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BEB-58A6-4C4B-8A2F-27244FB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262-3D60-43B3-A28A-E44A4E2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067-1935-4558-BC69-61EA7C0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3E2-C33E-4CF1-8087-63373281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961-5221-4E60-96E2-D19B5B0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9F86B-23BC-444E-81C4-BDC1392659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ÃO E O SEU D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2700360" cy="341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ão de um Hortelão chegou ao poço, e como em baixo viu sua figura, começou a afeiçoá-la; e tanto fez, e buliu, que caiu no poç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dava o Cão meio afogado, e o Hortelão com dó dele desceu abaixo junto da água, para o tirar, e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2603520"/>
            <a:ext cx="4425840" cy="33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lhe pegasse, o Cão meteu os dentes no braço, e o atravess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3280" y="2778120"/>
            <a:ext cx="44258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2479680"/>
            <a:ext cx="4425840" cy="3568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Hortelão o largou com a dor, e o Cão daí a pouco afogou-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1:38Z</dcterms:created>
  <dc:creator/>
  <dc:description/>
  <dc:language>en-US</dc:language>
  <cp:lastModifiedBy/>
  <dcterms:modified xsi:type="dcterms:W3CDTF">2010-11-25T22:25:41Z</dcterms:modified>
  <cp:revision>3</cp:revision>
  <dc:subject/>
  <dc:title/>
</cp:coreProperties>
</file>